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29C7-D98F-404C-92ED-96195B6F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BBA9-8913-4AAE-A9AB-FA5D622C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52C9F-2D99-409F-9E2F-E4218883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9CBCF-1B62-41B2-966F-620042AD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72148-0F25-4448-B0CD-F9BA7015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49055-BA83-44DA-86C3-1BD97C35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F822D-9189-4433-A394-98027FF2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A9701-0819-4743-9D01-7DCA8256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2D6A0-5F2A-4186-858C-02EF511C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A7587-BB51-4C58-90B7-0CD11412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97EBF-139D-4ECE-BAB2-8795584B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B169E-C660-4FD7-97A5-75C05AF8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EA25-C262-4003-9E0D-AE91CBED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A85C6-837E-4DE0-8A74-50A1C155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CB6D9-5D6B-4432-9385-A97FCA85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D15E9-50EE-4E9D-AD96-C3EE5D0A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D16A8-AE1A-49C7-A208-A8FC004B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28C7A-739A-4F22-BCD2-785C5C46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2DC1C-4424-4EF8-BDD9-F4808EAD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C47EA-70CA-481D-9254-760084DC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B961F-C009-4886-B01A-E536227B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5B65F-454C-4777-A15A-65157945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3B06D-F24E-4072-B202-1A8AA1EB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E6EE-FBB2-4274-8AB7-094B7665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DC4E5-58BA-48C1-B157-52FB0787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D33C9-6085-468A-AB83-F086FD0DA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A553B-D6B8-4864-8F99-D707D25B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77396-3F97-46C5-857A-049336F8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581E5-67EC-4A1A-BC32-3E02B8F1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54F19-17A5-408B-8C65-23589231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46BFE-0255-49C6-9184-860E1F55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A2525-ADCF-4040-8CB9-80EEF7C5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86424-2FF7-4B78-9A8F-E7659D4B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74F0B-E5F8-481E-9472-BF3A621C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0040-C397-4F20-BFCD-D4C9614F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9D06E-F2B4-4814-A056-4D0EF786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424BE-D131-4BFB-9729-DA888754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B3F33-7BB7-4215-A1B7-06C61DE6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3DAC2-62AB-4AFB-BE05-F5C0FEE6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FE779-5D49-4FEC-8EB7-1B79AF66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30E9C-51D6-4FE1-B2BB-0093857D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6EBF8-16A4-4046-90E8-346F1F11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E123B-4177-48C0-B1F9-D2B7163D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5967B-EDED-4585-929D-D34E3108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3ED2F-BFCB-441D-BEC3-BC649047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598C-C0A4-4B52-A5B0-0B6FB1F3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D4F54-A08C-445B-9720-C20DB762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44762-C004-4E74-A3CB-B9218BB6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1272D-A5E0-4583-8193-F9210B32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32EE5-8B14-45D8-B284-88DBB7DC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67C38-7813-4ADF-B6AE-00B0D50C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7678-DC79-41A3-97DC-402D3857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2EEE-9220-4286-9A2D-9A68EC9C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18F3-73F2-4689-840B-4C546F2D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B26A-CA6F-4F0E-97F3-0D183DC2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B9CD-CA11-431F-8A25-53F63AD0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85C0-E0CD-4142-8E3D-89FEAC40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E1408-4F00-4E60-B8F7-BD0F8342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5A57-B9E0-42AC-874D-39D0BC6E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850D-5B75-4048-8F1C-446AF413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FF06-AD5E-4E4A-B3F5-62FE0A9B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6672-3314-4BF6-B4D7-EB8C3AAE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9EF24-42DE-40B1-A124-6DD294EC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6CF32-332C-45AC-8141-B65ADA4B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93249-8C66-44D8-BE6A-9D8B259B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90D81-A796-47B4-BACC-FF5D2D5D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80B28-D8E7-4764-8AE0-474CF362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42EE-58FF-4E25-917D-AB7D231C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D1EB7-51C9-4501-891E-49F5C2D4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C99C9-863C-46C0-B828-643CFBAB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1EBEF-11FA-424C-966C-82A32792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A1E88-9EE8-40D0-BE0A-BBC863FE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12EF5-3C8B-4D78-982D-B20AABB5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6ABF6-07A2-4F4A-BE42-6E27640A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8CE4D-8A87-4218-9551-AA8C7ADA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E8123-9504-4127-979A-683350A8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6F897-E020-4A82-B8F6-525419FD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0BE39-C819-4AC7-91B6-A87EA104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8E94-B47A-493E-804F-F640EFD5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D45A0-E5F5-47C1-8515-326881AD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96771-FF23-44BB-A55A-D9DF59AB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134DF-01C7-4FC0-B5E7-4CDE936E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1A4F0-F228-41F8-A19C-7C8656E5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EEA75-F021-4F21-83E1-FEFF7979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088F8-AC64-4581-B152-70F93A6B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EFAB7-6869-4A4F-8581-34C5A7AE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77ED0-CBF3-4796-BD46-678DDBEB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6BD24-0115-4E7F-AE4D-4079244E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7A062-1488-49CF-84F9-95FF3798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57A8-54E5-4F15-914B-A5DE769D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9549D-9345-41C4-AEE9-BDB4C73E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36D3D-D5D2-4466-ADD6-5D2F92BA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DACD7-0DD0-4332-A496-D49D9753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24742-807D-4D1F-A9C3-E2F75A45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82881-4B05-4474-A947-7F7B79C1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D3CB1-BD39-4465-85E2-2472B3CC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B8DFD-88AA-434A-B2C3-A7F18C6F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AEC1A-EB60-4072-A9FE-33F2D76E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695DF-2E51-4607-AADF-9B2A5B27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ECB1A-F6CF-4105-AFCE-5091EA62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8B8E-530D-4DDC-85AD-7A97EE2B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09F3B-4D70-4E64-B6FC-55171DD4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BCB5EA-833F-4CD1-9622-0F673B692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F24163-578F-48B5-A029-CADCBB55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9730CD-FAA6-4553-9330-EE8AFD4A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B015CF-8B16-4B4E-A830-7396B6F4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998705-20B2-4307-9EA5-9133160D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650A46-FEB9-4531-A217-25A9C6F7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C7F6D3-E6FF-4656-B85C-CEACC7F2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9F0470-8AB1-41FE-99E0-286C9871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C9380B-EC5E-41E9-BDAF-1904D176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B430-4145-410E-B8BC-DF5DDF8E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9B09D3-47E9-4480-8FBA-518F2AE6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5B20E3-761F-4A18-B63E-7C5A51681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61E404-3862-4F7D-9951-91E3D75B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F9FE2-8235-49EC-BB8E-7C3CCEA1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C3D01-CC3E-425F-A618-8B0DEEC0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F490E-5A36-4725-9564-AB3AAE86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FBDBF-4C2A-4035-911A-0C434CED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1F4F6-D7D2-4BD0-A79B-09D21818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99EC1-9B89-4327-A153-19F58E42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17E24-90D0-4CF3-816E-499887F5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EA43-E127-441F-864B-C5154A6E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245D7-0412-44C0-B4D3-C66EE565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32A77-CA7D-46DB-BE8F-12EF5181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BFCE7-F123-4ACF-BC15-3D50E116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3862D-C514-4B2B-ACCB-C535B55B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37CB4-8B5F-4B99-BCAB-21FDEC0A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FF551-5898-47BB-87B0-A655F31F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0F931-B529-4993-94B5-CAC3646A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F2435-DF87-4CA4-B36F-A586AF9F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4AC50-45C2-4B80-AAC6-62883E32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FC16E-3E46-4259-A922-531A51293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4E56-B04A-4292-9E92-ABA0A30F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0B75B-4A5F-41A1-AABA-AB12F5F3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0BD60-4276-4104-A427-2D07916F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AB1C4-CF6F-4A66-B7C3-08A61A6D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7E1C6-E848-48DC-B7DC-9406551C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8C113-7B3F-4713-8579-43E59671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D42EB-8E82-4AAD-84CB-251DB556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F8198-BE2B-46EB-A543-8EA85003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0F4F6-F4DD-4344-B536-B46BE52B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4CD8E-6345-464C-B876-C67931B5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566F5-9E2E-4984-982C-DBDC23E0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53AA-EF7C-4BAF-B7A8-44F85AF6DEE2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C83A-111D-4477-BC89-9898F7B40771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D655-9B4A-4E02-BC78-FDD07A41E2D5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3D70-93B8-49B3-93FA-6076BB2F452C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CE26-E84E-469F-B351-EB132AF16EC2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8A1A-6626-4B0A-93DD-9BF096FC1831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0B97-E760-4FBB-905E-9888F229E220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CDC0-020E-4CAD-87CA-76AF5773F8F8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3B54-CE53-4EA7-A33B-83030EF848C9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178B-74CD-4E3C-BCB3-60DCB5277D45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01B5-796D-4CBE-973A-5209823BE65D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8EFD-4CB0-447E-BF0E-94E2A51C0EBC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F728-E886-4083-B015-BB65F8C48F7F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8988-FF83-47E3-AD8A-550A237FC2AD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86A6-2F9D-484B-97AE-7926AC480392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8154-2212-4D4E-B3B7-7625E92835CA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BC74-6D4D-4AD3-A376-591037B9EEBA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E0BF-C7AB-4FFC-899C-DBEB273F2CCB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AC6E-C008-4CCA-AEA2-3F3EDD19ABE0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BCC4-6D16-4DCB-873F-FC4719206BA7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BEBA-A6B4-4C5C-8CD4-A73AB60DB7E8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FA13-5C8A-4BB7-B43A-D852B056CBB4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6BD7-B39B-4032-A5D5-016E90AF0A9F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F855-CE9B-406C-9E9D-A4BB741A1761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Raising Safe and Respectful Children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3900240"/>
            <a:ext cx="5562720" cy="24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April 25, 201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Chief John J. Moo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Dr. Brad Jacks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John Harutunian</a:t>
            </a:r>
            <a:br>
              <a:rPr sz="13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8" name="Picture 3" descr="book kids.jpg"/>
          <p:cNvPicPr/>
          <p:nvPr/>
        </p:nvPicPr>
        <p:blipFill>
          <a:blip r:embed="rId1"/>
          <a:stretch/>
        </p:blipFill>
        <p:spPr>
          <a:xfrm>
            <a:off x="6400800" y="228600"/>
            <a:ext cx="2438280" cy="18669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" descr="raising hands.jpg"/>
          <p:cNvPicPr/>
          <p:nvPr/>
        </p:nvPicPr>
        <p:blipFill>
          <a:blip r:embed="rId2"/>
          <a:stretch/>
        </p:blipFill>
        <p:spPr>
          <a:xfrm>
            <a:off x="3581280" y="3475080"/>
            <a:ext cx="3810240" cy="25351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5" descr="salute boys.jpg"/>
          <p:cNvPicPr/>
          <p:nvPr/>
        </p:nvPicPr>
        <p:blipFill>
          <a:blip r:embed="rId3"/>
          <a:stretch/>
        </p:blipFill>
        <p:spPr>
          <a:xfrm>
            <a:off x="3505320" y="2286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6" descr="teens.bmp"/>
          <p:cNvPicPr/>
          <p:nvPr/>
        </p:nvPicPr>
        <p:blipFill>
          <a:blip r:embed="rId4"/>
          <a:stretch/>
        </p:blipFill>
        <p:spPr>
          <a:xfrm>
            <a:off x="380880" y="228600"/>
            <a:ext cx="26193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gend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533520" y="2057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art I: Dr. Brad Jackson/John Harutunia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Parental Concerns in 20111…national poll result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Benefits of social media use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Risks associated with social media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What parents can do to help their child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art II: Chief  John J. Moor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Cyber risks/issues from lens of law enforcement 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Inappropriate actions or humor that may lead to civil rights violations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Clarify marijuana and social hosting issues and consequences in both civil and criminal arenas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art III: Discussion and Parent Question/Answer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0"/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0"/>
                                        <p:tgtEl>
                                          <p:spTgt spid="6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0"/>
                                        <p:tgtEl>
                                          <p:spTgt spid="6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0"/>
                                        <p:tgtEl>
                                          <p:spTgt spid="6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echnology driving changes in parental concer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80520" y="224460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f3f3f"/>
                </a:solidFill>
                <a:latin typeface="Georgia"/>
              </a:rPr>
              <a:t>2009/10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721040" y="224460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f3f3f"/>
                </a:solidFill>
                <a:latin typeface="Georgia"/>
              </a:rPr>
              <a:t>2011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80520" y="270792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hildhood obesity – 38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rug abuse – 30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moking – 29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ternet Safety – 25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ress – 24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ullying – 23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een preg. – 23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hild abuse – 21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lcohol abuse – 20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ot enough phy activity – 20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717800" y="270792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hildhood obesity – 33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rug abuse – 33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moking – 25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een preg. – 23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ullying – 24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Internet Safety – 23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ress – 24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lcohol abuse – 20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riving accidents – 21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</a:rPr>
              <a:t>Sexting – 20%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6664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arents…What you can do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et yourself an accou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ngage your child in an on-going dialogu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view privacy settin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view rules for what is and is not appropriate to communicate, play and post onlin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onsider Family Media contrac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8:27:26Z</dcterms:created>
  <dc:creator>John Harutunian</dc:creator>
  <dc:description/>
  <dc:language>en-US</dc:language>
  <cp:lastModifiedBy>Julie Elkan</cp:lastModifiedBy>
  <dcterms:modified xsi:type="dcterms:W3CDTF">2012-04-25T20:17:57Z</dcterms:modified>
  <cp:revision>9</cp:revision>
  <dc:subject/>
  <dc:title>Raising Safe and Respectful Children</dc:title>
</cp:coreProperties>
</file>